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08B-5B2F-43A0-BDAD-5025FF44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771-D2D4-4150-B4E9-2E4B8EAF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557-EE1B-47EA-88F5-338202A7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6CF-EC59-417E-8446-21F9216C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65105-D681-4F29-B9E6-756E5886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9E421-29C7-40DF-B52D-2D6D4AE3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A7B7F-08E7-448D-AA6A-B9287FA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0E317-698F-4837-AED7-AA367C5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7CBE3-D7F7-49AE-9563-65C092C9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7782F-F167-4688-8D8E-2D01886F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B1A84-8E56-49A1-9332-9C4CE603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F4E-804A-42F2-9B14-B1AAC4F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FF033-3CFC-40AA-BA10-B54A9C3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F4876-0422-410B-BC8A-AA5A4D16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E2FB6-3B56-4D8B-908B-19A504CD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DDD3A-08CD-46EA-930D-95D3918E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F5B2F-CBD2-4923-825B-B1EACEAE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AE5-8E2B-46BD-AFEC-0D92BFED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C85-F051-4D41-A444-A887CA61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356-7B9A-4474-8D9E-BA4C3DCC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BBF-F14F-48DC-AD23-0208BA1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603-452E-4791-8B0B-C4277A36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97A-AD0B-47A9-B364-E7B2630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B4A-C595-4EEA-8D04-FBCE3765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86F-19A8-4B45-BC9E-21AE81F0C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4582-65E4-4262-9396-9C6BA8EBA1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Zo9cN5qr4W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assical Civilization: Gree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 2-The Po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an W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72200" y="57150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. Paglia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ymour 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Key Vocabul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ropo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tiz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arc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ist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igarc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ncil of El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alan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ian W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s/Places/Batt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sistrat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isth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ri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tle of Marath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eidippi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er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mopyla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am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ian Lea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esson Objectiv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he polis and its key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e the development of several political systems, including democ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Athens and Sparta; identify their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/Contrast Athens/Sparta (Day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ost-Dorian Ag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ks stopped identifying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ENA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48c9b"/>
                </a:solidFill>
                <a:uFillTx/>
                <a:latin typeface="Tahoma"/>
              </a:rPr>
              <a:t>Associated with local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oli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8c9b"/>
                </a:solidFill>
                <a:latin typeface="Tahoma"/>
              </a:rPr>
              <a:t>Greek city-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48c9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c9b"/>
                </a:solidFill>
                <a:latin typeface="Tahoma"/>
              </a:rPr>
              <a:t>Ago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open air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48c9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c9b"/>
                </a:solidFill>
                <a:latin typeface="Tahoma"/>
              </a:rPr>
              <a:t>Acropol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ighest point of city; fortif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File:TyreAlMinaAgora.jpg"/>
          <p:cNvPicPr/>
          <p:nvPr/>
        </p:nvPicPr>
        <p:blipFill>
          <a:blip r:embed="rId2"/>
          <a:stretch/>
        </p:blipFill>
        <p:spPr>
          <a:xfrm>
            <a:off x="4857840" y="6858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ile:Athens Acropolis.jpg"/>
          <p:cNvPicPr/>
          <p:nvPr/>
        </p:nvPicPr>
        <p:blipFill>
          <a:blip r:embed="rId3"/>
          <a:srcRect l="0" t="23530" r="0" b="29416"/>
          <a:stretch/>
        </p:blipFill>
        <p:spPr>
          <a:xfrm>
            <a:off x="0" y="3962520"/>
            <a:ext cx="91440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f1f1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Requirem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ree-b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Righ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t of assemb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control over poli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Responsibili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fend the polis in times of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71f"/>
                </a:solidFill>
                <a:latin typeface="Tahoma"/>
              </a:rPr>
              <a:t>Women, slaves, foreigners </a:t>
            </a:r>
            <a:r>
              <a:rPr b="0" lang="en-US" sz="2800" spc="-1" strike="noStrike">
                <a:solidFill>
                  <a:srgbClr val="07871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7871f"/>
                </a:solidFill>
                <a:latin typeface="Tahoma"/>
              </a:rPr>
              <a:t> no say in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Callout 1 5"/>
          <p:cNvSpPr/>
          <p:nvPr/>
        </p:nvSpPr>
        <p:spPr>
          <a:xfrm>
            <a:off x="4191120" y="1371600"/>
            <a:ext cx="1828800" cy="1447920"/>
          </a:xfrm>
          <a:prstGeom prst="borderCallout1">
            <a:avLst>
              <a:gd name="adj1" fmla="val 18750"/>
              <a:gd name="adj2" fmla="val -8333"/>
              <a:gd name="adj3" fmla="val 87134"/>
              <a:gd name="adj4" fmla="val -81620"/>
            </a:avLst>
          </a:prstGeom>
          <a:solidFill>
            <a:srgbClr val="010199"/>
          </a:solidFill>
          <a:ln w="19080">
            <a:solidFill>
              <a:srgbClr val="33cccc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avery existed in Greece: Remembe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es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volution of Government in Greec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rcRect l="15973" t="51105" r="15740" b="25165"/>
          <a:stretch/>
        </p:blipFill>
        <p:spPr>
          <a:xfrm>
            <a:off x="0" y="1523880"/>
            <a:ext cx="9144000" cy="3332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rcRect l="15973" t="53892" r="66390" b="33224"/>
          <a:stretch/>
        </p:blipFill>
        <p:spPr>
          <a:xfrm>
            <a:off x="3048120" y="1905120"/>
            <a:ext cx="5181480" cy="396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rcRect l="33046" t="53817" r="49885" b="29903"/>
          <a:stretch/>
        </p:blipFill>
        <p:spPr>
          <a:xfrm>
            <a:off x="2666880" y="190512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5"/>
          <a:srcRect l="50118" t="53817" r="32245" b="29903"/>
          <a:stretch/>
        </p:blipFill>
        <p:spPr>
          <a:xfrm>
            <a:off x="2743200" y="1981080"/>
            <a:ext cx="4876920" cy="471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6"/>
          <a:srcRect l="67191" t="54360" r="15740" b="31531"/>
          <a:stretch/>
        </p:blipFill>
        <p:spPr>
          <a:xfrm>
            <a:off x="2743200" y="2057400"/>
            <a:ext cx="5105520" cy="4424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5105520" cy="4572000"/>
          </a:xfrm>
          <a:prstGeom prst="rect">
            <a:avLst/>
          </a:prstGeom>
          <a:solidFill>
            <a:srgbClr val="f8f89e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Tyran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State ruled by a tyra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Rule based on seizure of absolute pow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Makes refor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thens and Spart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examples of the Greek polis and each of the various forms of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ction Button: Forward or Next 5">
            <a:hlinkClick r:id="rId2"/>
          </p:cNvPr>
          <p:cNvSpPr/>
          <p:nvPr/>
        </p:nvSpPr>
        <p:spPr>
          <a:xfrm rot="20194800">
            <a:off x="5322960" y="4027320"/>
            <a:ext cx="2819160" cy="914400"/>
          </a:xfrm>
          <a:custGeom>
            <a:avLst/>
            <a:gdLst>
              <a:gd name="textAreaLeft" fmla="*/ 59040 w 2819160"/>
              <a:gd name="textAreaRight" fmla="*/ 2760120 w 2819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6577" h="21600">
                <a:moveTo>
                  <a:pt x="0" y="0"/>
                </a:moveTo>
                <a:lnTo>
                  <a:pt x="66577" y="0"/>
                </a:lnTo>
                <a:lnTo>
                  <a:pt x="66577" y="21600"/>
                </a:lnTo>
                <a:lnTo>
                  <a:pt x="0" y="21600"/>
                </a:lnTo>
                <a:close/>
              </a:path>
              <a:path fill="lightenLess" w="66577" h="21600">
                <a:moveTo>
                  <a:pt x="0" y="0"/>
                </a:moveTo>
                <a:lnTo>
                  <a:pt x="66577" y="0"/>
                </a:lnTo>
                <a:lnTo>
                  <a:pt x="65177" y="1400"/>
                </a:lnTo>
                <a:lnTo>
                  <a:pt x="1400" y="1400"/>
                </a:lnTo>
                <a:close/>
              </a:path>
              <a:path fill="darken" w="66577" h="21600">
                <a:moveTo>
                  <a:pt x="66577" y="0"/>
                </a:moveTo>
                <a:lnTo>
                  <a:pt x="66577" y="21600"/>
                </a:lnTo>
                <a:lnTo>
                  <a:pt x="65177" y="20200"/>
                </a:lnTo>
                <a:lnTo>
                  <a:pt x="65177" y="1400"/>
                </a:lnTo>
                <a:close/>
              </a:path>
              <a:path fill="darkenLess" w="66577" h="21600">
                <a:moveTo>
                  <a:pt x="6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77" y="20200"/>
                </a:lnTo>
                <a:close/>
              </a:path>
              <a:path fill="lighten" w="6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577" h="21600">
                <a:moveTo>
                  <a:pt x="26282" y="3794"/>
                </a:moveTo>
                <a:lnTo>
                  <a:pt x="40295" y="10800"/>
                </a:lnTo>
                <a:lnTo>
                  <a:pt x="26282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523880" y="3124080"/>
            <a:ext cx="3581640" cy="3020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2373"/>
                </a:solidFill>
                <a:latin typeface="Tahoma"/>
              </a:rPr>
              <a:t>REVIEW</a:t>
            </a:r>
            <a:r>
              <a:rPr b="1" i="1" lang="en-US" sz="2400" spc="-1" strike="noStrike">
                <a:solidFill>
                  <a:srgbClr val="51237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512373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ahoma"/>
              </a:rPr>
              <a:t>The impact of geography on Gre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512373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ahoma"/>
              </a:rPr>
              <a:t>The basic structure of a po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2373"/>
                </a:solidFill>
                <a:latin typeface="Tahoma"/>
              </a:rPr>
              <a:t>PREVIEW</a:t>
            </a:r>
            <a:r>
              <a:rPr b="1" i="1" lang="en-US" sz="2400" spc="-1" strike="noStrike">
                <a:solidFill>
                  <a:srgbClr val="51237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ahoma"/>
              </a:rPr>
              <a:t>1) The values of Athens and Spa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ading for Info Activity,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trategy: 2-Column Note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206960" cy="525780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4443480" y="1676520"/>
            <a:ext cx="4700520" cy="38862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53:21Z</dcterms:created>
  <dc:creator>cpagliaro</dc:creator>
  <dc:description/>
  <dc:language>en-US</dc:language>
  <cp:lastModifiedBy>cpagliaro</cp:lastModifiedBy>
  <dcterms:modified xsi:type="dcterms:W3CDTF">2010-11-17T15:32:54Z</dcterms:modified>
  <cp:revision>10</cp:revision>
  <dc:subject/>
  <dc:title>Classical Civilization: Greece</dc:title>
</cp:coreProperties>
</file>